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4DCC-679B-4D7F-A85B-899ABCD9A1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 alternative here is to hand out cut up questions in a pile. In pairs, learners turn over questions and ask/answer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7CB4-D0E8-4E6D-AE94-5D4DCC5431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vary this, you can swop roles halfway through, so the journalist becomes the doctor and the doctor becomes the journa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4625-FDAB-44BB-8CCC-AAAACADB278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 alternative is to print out the interview and cut it up. Then learners match the answers to the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329D-2CBC-4B67-8958-35CC8D14BED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may need a review of the format and language of a formal le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BF74-C47F-4A98-B3D9-97E2CBE34AE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-c   2-f   3-a   4-e   5-b   6-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EA4D-1221-4367-97C1-5FAC73E2B6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other option is to use the website link with an option to zoom in and out: http://www.newint.org/features/2012/09/18/illegal-drugs-facts-infographic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897B-BAD0-44A6-88D9-3B3DA511138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udents can read on-line or you could print out the text on handou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F283-EE32-4304-B1AE-35A4B551C9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listen for errors and elicit corrections after the role-pl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DA8C-EEE5-4DC0-A64C-8E5137157E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C470-5FCA-4F28-B610-6C8C75FE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6AF6-A4F9-4888-AD3B-F5C54545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3F32-456B-413F-9887-CDFABEEC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2600-6CCD-4AF5-A326-04E34256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DF01-904B-4251-B79A-67ADEA49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E343-B256-422A-A556-D0606BD6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87B8-68AB-4D50-AFFD-6B97BE7B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D4B1-EAC6-44B3-AED5-205FFEBE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0A9-F2B4-41AD-A129-EE1E9A2C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B5A0-C9BF-459C-85AB-E0000CCC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AE42-26A5-4A4C-82B8-543FB0F9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2659-EB60-4312-9CFA-5CC7DC54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AE6B-8E17-4213-A7E6-B868609101D1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901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9280" y="4005360"/>
            <a:ext cx="7993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New Internationalist Easier English lesson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Upper Intermediate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3" descr="NI logo 2.jpg"/>
          <p:cNvPicPr/>
          <p:nvPr/>
        </p:nvPicPr>
        <p:blipFill>
          <a:blip r:embed="rId2"/>
          <a:stretch/>
        </p:blipFill>
        <p:spPr>
          <a:xfrm>
            <a:off x="5802480" y="476280"/>
            <a:ext cx="2277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-360" y="333000"/>
            <a:ext cx="86425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) Why would making drugs legal make things better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2) Would making drugs legal increase the use of dangerous drug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3) How could we protect children and young people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4) After drugs were made legal, how would you control them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5) We can make drugs legal. But isn’t it better to change the way people think?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6) Isn’t it true that drug takers can’t think clearly? So isn’t it a good idea to protect drug takers themselve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404280"/>
            <a:ext cx="8569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7) If drugs were legal, would there be a private free market for drug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8) Would hard drugs become cheap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9) Should some drugs be illegal for health or social reason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0) Is it possible there will still be a “black” market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1) Has anyone tried legalizing drugs and been successful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2) Would legalization happen everywhere quickly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3) Where can I find more information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3024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" y="3357360"/>
            <a:ext cx="82296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ttp://eewiki.newint.org/index.php/If_all_drugs_were_legal,_what_would_happen%3F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In pairs, write a letter to your country’s leader:  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- summarize some of the arguments for legalizing drugs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- say if you think this should happen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- and why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412120" cy="1439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http://www.newint.org/features/2012/09/01/illegal-drugs/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http://www.newint.org/features/2012/09/01/drugs-legalization/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Introduction: speaking and vocabulary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Reading: for detail and for gist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Speaking: role-play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18120" indent="-488520">
              <a:spcBef>
                <a:spcPts val="1349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List all the illegal drugs you know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  <a:p>
            <a:pPr marL="618120" indent="-488520">
              <a:spcBef>
                <a:spcPts val="1349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List all the reasons you can think of for making illegal drugs legal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50560" y="1341000"/>
            <a:ext cx="403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ecstasy, cocaine, heroin, cannabis, amphetamines, marijuana and opi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prohibi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illici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legaliz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psycho-activ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decriminiliz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649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649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187880" y="1341360"/>
            <a:ext cx="47052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a) illega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b) makes your brain chang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c) these are illegal drug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d) making something no longer a crim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e) making something lega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f) not allowing something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263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The next slide shows lots of facts about drugs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You have 5 minutes study this and try to remember as many facts about drugs as you can. Then tell each other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9" name="Picture 3" descr="drugs info.jpg"/>
          <p:cNvPicPr/>
          <p:nvPr/>
        </p:nvPicPr>
        <p:blipFill>
          <a:blip r:embed="rId1"/>
          <a:stretch/>
        </p:blipFill>
        <p:spPr>
          <a:xfrm>
            <a:off x="4211640" y="196920"/>
            <a:ext cx="334980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7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1" name="Content Placeholder 3" descr="drugs info.jpg"/>
          <p:cNvPicPr/>
          <p:nvPr/>
        </p:nvPicPr>
        <p:blipFill>
          <a:blip r:embed="rId1"/>
          <a:stretch/>
        </p:blipFill>
        <p:spPr>
          <a:xfrm>
            <a:off x="47520" y="168120"/>
            <a:ext cx="90964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Find as many reasons as possible for legalizing or decriminalizing drugs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ttp://eewiki.newint.org/index.php/Make_drugs_leg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Compare with other learners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What questions do you have about drugs being made legal?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Write some questions in pair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eg. If all drugs were legal, what would happen?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In pairs, A is a journalist and B is a doctor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A needs to interview the doctor about what would happen if all drugs were legal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A ask and B answer some of the questions on the next 2 slides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19:08:39Z</dcterms:created>
  <dc:creator>Mix</dc:creator>
  <dc:description/>
  <dc:language>en-US</dc:language>
  <cp:lastModifiedBy>Mix</cp:lastModifiedBy>
  <dcterms:modified xsi:type="dcterms:W3CDTF">2012-10-28T16:14:23Z</dcterms:modified>
  <cp:revision>19</cp:revision>
  <dc:subject/>
  <dc:title>DRUGS</dc:title>
</cp:coreProperties>
</file>